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8F7-F034-489E-902E-33B5EB77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EBF-9BD1-464A-BB52-DC31DD3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35B-16F5-40ED-8160-F9BE2FEB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8DC-C045-4005-80FC-452EC38D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14B-D01E-4446-ABD7-10852CE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89B-2A62-4D7B-9229-82A8F49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B74-19EC-4FE4-8505-B6E496C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65F-6921-477B-A9B8-2F52DCE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E7F-CE8B-4326-85F9-FFB9600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BFA-F367-46C4-A8EB-8FA9F83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9EB-7EFB-4292-B42A-A34645B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FCA-05BA-43ED-A97D-4632442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12E1-1DF9-4EE1-83A9-82F3734CF75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Hi-Tech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M4 Corri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Corri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industrial regions in Britain have tended to grow up along main communication rou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example of this i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Sunrise Strip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takes in the area around motorways such as the M11, M23, M3 and, most importantly, the M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dustries are described as be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tloos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y have generally grown up over the last 25 years in "growth areas", along communications rou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y do bring prosperity to regions, the new industries actually employ few people in comparison to the older, declining, heavy indust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location factors have been super-seeded by newer 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ther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access to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aw material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s relatively unimportant nowadays, location, although dominated by communications considerations, also can increasingly take into account the social needs of its employe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us climatic, scenic, health and entertainment factors have to be includ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turn the industries try to locate near to places where a skilled workforce could be employed, such as around the university towns of Oxford or Cambridg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nrise Strip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motorway system, which allows easy access to all parts of the United Kingdom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asy access, via the roads, to the Channel Tunnel and ports to allow export abro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lose proximity of Heathrow, Gatwick, Stanstead and Luton airports, all of which could be used to export product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skilled workforce found in university towns of Oxford, Cambridge, Reading and Bristo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nrise Strip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 proximity and good access to London, where the major government functions and financial trading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ncentration of other industries means that ideas and knowledge could be shared, there will be a concentration of suitable skilled labour and transport costs may be reduced between agglomerated indus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very attractive natural environment, which would provide a very pleasant place to live for the work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as such as the Cotswolds and the Mendip Hills are in easy reach of the Sunrise Stri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amples Of Similar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 Silicon Glen in Central Scot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 Silicon Valley in California, US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09:22Z</dcterms:created>
  <dc:creator>Dell_02</dc:creator>
  <dc:description/>
  <dc:language>en-US</dc:language>
  <cp:lastModifiedBy>Dell_02</cp:lastModifiedBy>
  <dcterms:modified xsi:type="dcterms:W3CDTF">2011-01-27T04:16:39Z</dcterms:modified>
  <cp:revision>1</cp:revision>
  <dc:subject/>
  <dc:title>Hi-Tech Industry</dc:title>
</cp:coreProperties>
</file>